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F9D-780A-4997-91BD-FFA96CD4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300-401B-4D6B-9BB6-911866B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157B6-A6B4-4DDC-BDA6-6DA0894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FAB15-F969-44A4-BDE3-7019D345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AFF81-2EA5-4D3C-85CA-DC9830A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B7DB1-E567-4FD8-8137-1C28C4D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622FB-398A-45B9-BCEC-9170BAA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41CA3-6DD7-4659-844B-806DB55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CD0A9-7028-4ABB-ADAC-D81AF2E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8B11F-7F04-4A49-9FAE-B93DA73C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6CE1A-FF1B-4549-8480-C5B40308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85C6C-9CB3-493D-93F3-4C8ED726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DED-7039-463B-BD91-732646D7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31B54-A443-4C50-BDDA-69259569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8F1BB-956E-415B-83CD-3FB1983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E0576-8D17-4F06-8405-7BA74615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A753F-1B78-40E4-A2AD-4E84BC1D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2BE54-11D7-48EF-A991-7C19C918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F3C31-D556-4EA8-AA58-BD16F970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FB22D-C704-4409-9BFD-FB57A50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E9D2C-C42B-4854-8103-0DAFF50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E3EC9-544D-4AB1-BC2D-A8EA58D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A025A-EA05-47CA-B1D5-4199B856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400-2B7E-43D7-A698-4EA2C0B4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D0FA2-B160-4615-A991-D0A25DAD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E1D8F-4FB5-410C-B523-3B72DF11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71C0-0664-47B4-8AA4-8C2B532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701B-4A7A-4249-AC2C-31FE5B74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34072-B331-4C35-B859-3DE1B0F2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975B-4F13-410B-B59F-2DABFD1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9AB0-C9DC-4014-AAF7-12A849A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7B4BC-EE11-491C-91CB-F38367D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9889-3894-4F61-94FE-7715442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F47A-BFF5-4667-AE97-B283D5E6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B5E4-621E-4DBC-97E9-79EA8363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AFAAC-DB1A-44E0-9EE5-103327A7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4C025-330F-4F76-A51D-E19F981C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238E8-14C4-45E5-B192-CD80D639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C12D8-9F8C-4D40-85E3-85882040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9ED36-58C5-4FBF-83DB-6C7DEA29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8C3F2-A3A6-4E5C-90F0-856C52C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6C8AC-A47E-4DE3-A44F-D5F98AB5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C40C-6036-446D-8DF4-6CFD1CE8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F1DA3-DE2C-4BBC-86F7-3FAE6BF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CB549-5B08-423A-B698-097E276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3E1-374F-4F48-9716-8F48896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DAB02-9650-43DD-802B-49F4CAC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84A6-5406-48B2-8174-F7D27E6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6FA7-67E3-49FC-B47D-13B1DF6C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DB498-568E-47C6-AE80-A442F532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754DD-548D-4ADF-9852-36EE9EDF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00024-AFE4-49A9-A3B7-1B19A989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BC2FF-D2E2-45A7-A79F-6854C415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0C56A-B066-48DA-8AB5-099CE770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D0D0D-B871-4B6C-A84B-1B9AA482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3CAC5-3A65-4EC3-8876-A70A7F3D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326-2DE0-4769-8DE7-6F62D1E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3346D-7FBB-4737-84D9-D1838DE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189F6-C3AD-434D-931B-DD38AE7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D3065-F70E-488D-BF80-F06CC30D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C4503-D8E5-4910-A04B-450FA7B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CBC74-B61B-4B16-9F42-3A2956B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F74CE-9203-47A4-ACCF-22822C04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E5ACD-8C60-41BF-BB32-999BF852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E4544-D43F-4629-BA80-F6AE9697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A6E6F-15F7-479A-8230-3392EB2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C7E00-0147-496B-84E7-C761DF0D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8E4F-D841-4E1A-82AC-4E0C615B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B0799-CA03-48BE-AABF-69990755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22CC8-58BC-4017-B0AE-99C0210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37881-8DB6-42DC-BC96-3BA37AC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10269-D612-461D-8BA1-1D83D4F5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D0185-63B5-4CBF-BC5B-7F32B71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9CCD6-EA2D-4D5A-8921-F8A55E4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32396-471F-4593-A678-FF2A61BE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676EC-E655-4BA9-B1BD-96B10593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5EEDC-6E99-48EB-A2A8-04B63CC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5D273-AA66-4764-80F9-A0ED89E9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CAA-5A70-4D16-AE32-6759216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99A7F-9EBC-45CF-A2D1-60DC0177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89A30-C39A-4D5D-A3D2-056B257D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9C358-5627-4B1C-8101-02C2617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BBAF4-34D1-4E02-A3CF-AF8FC05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1B829-0035-423E-A97C-3ECA1B3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1DF3D-9FDB-4DA4-9F5B-746F49A1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23C11-02A6-435E-B611-9E8DEA3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4B9DA-F7F6-4A0D-B8EA-F2A5177C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A51AC-45DB-428C-8F93-CD2DDFA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1C08D-2F0A-4339-935B-D3F8185C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02A9-FAC8-43B4-9103-BB935A3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20AB1-439A-4258-B0C6-68088435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FE0B2-4FA5-40BF-B888-BEE09370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14745-2B2B-4A0A-9BDF-405B53F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74661-7ABD-4971-842E-CF1C6364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595D0-0BF1-4EA5-9DA6-8ED72649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F5754-4BF8-4FA8-8F78-C405FDA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3BAE4-4C24-4462-BFFA-0CB6473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89515-8629-4DD5-A8C6-3C57C05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32C73-B5DD-47EA-8CD5-C648CB8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DFCF4-D27A-4B44-B22B-C0FD7FE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15C-0CB3-4D3C-B30F-9B7654B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FBF68-FFD8-45CA-B351-399DB85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97588-29DC-43A0-B34A-A3D357FA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06CB1-8012-4799-A30A-F9A4EE8C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D4B27E-FCA7-4CAB-98C0-A5F3E8CC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11225-7592-4440-BFD2-458FC25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357BA-B773-49E9-929B-2F720A8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8AB2D-98D8-4EC6-A1A6-C73A1118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5BA95-2310-406B-BE0F-D01EBA70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EEAE5-371F-4F78-9BA2-B077D23F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1B307-F8A4-4252-A91D-0177DC6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706-6AEB-404F-B2F5-BC027235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6FAE-AC1E-4587-BDA4-A4D59F6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49858-53CF-4814-A7DA-1799461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413DB-5A12-4729-8D09-8E0BD38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20ADD-3BA0-4EDA-96F0-B5E8A1F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8C533-BE36-4B9C-BCBE-DD1AC277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E989A-FA19-4D25-8EE6-79D52B2C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A8218-3068-4AC2-9A2C-344B5BD3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8287A-A98E-4914-A486-DC1F077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52A14-7F0E-46EF-9CBC-78E6CD20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E10D9-040B-429E-A5DC-2CE15CB4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23B73-1939-42B9-A849-831F3922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E78F-EA99-4607-A8E5-CD957DF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D7E1B-1561-4EBE-8F45-82A3D37F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C4923-CC06-45AF-8425-A8E3CDF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A6E86-C8D3-443A-9A4E-6DA1172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5E2A2-6D8C-4D72-9990-03DDDA2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ECDF6-3F7B-48D1-B067-11E8E24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28E4F-AFC1-4943-B67B-39334A72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CB35D-E570-482F-A7A1-0D71635A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1F000-1E78-4D84-9D42-CC746CC9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AF9F2-5756-4C04-9012-FED6E909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690E9-85DE-4C28-98AB-A64E5454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0B34-5AEF-4ADC-9342-EBE19335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0A2B3-9C9D-4A1A-8A4E-7763741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6AFEA-069C-4981-9A3F-85F91D2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A637C-18CF-4FF3-BAA6-7B19312B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79001-BF3A-4D24-8AD6-D704A97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BF31B-94A4-48F7-BE06-78C104A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9A92E-EA98-434D-9FAD-D813D47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3B8D8-EBE2-45DB-8B75-37BE26C4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EA73E-BB67-40EC-8B62-DDAA6ECE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AA79F-3375-40C5-BF23-807B2555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BA3F1-C8DC-4F5D-AAC6-BA6ABC26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7735-E7F1-4C09-BE3C-20513514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570AE-E1C8-45D1-B6BA-7012313B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957C6-F686-498A-8C6F-CF37843A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E96B2-B4FF-4266-A680-C8FADEC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BA04E-1CD2-4150-AF98-11C64FE0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DBB08-B672-4597-B2CD-7920E51D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A05CC-7269-4789-B938-025FA07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54C01-2CD7-466F-88CD-9801405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2403D-D6D1-4630-869C-51D5A99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583D1-B34A-4376-9D1D-FA426473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E450F-7427-4100-801D-84B8E32E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3E50-2439-4432-A2AA-CBFA1A50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BF3B4-6814-489C-BCB7-0DF1A5BC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3F4BB-F9E7-4EC1-BBFC-63544998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B7021-8C72-4524-AACF-4EE5484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AE9FA-E429-48F6-9A08-EC07207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7DFDF-42CC-480E-9EDF-AE0669E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E070F-ADC6-4B6C-AFDE-67596588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76B74-72C9-4C26-9156-70DC64F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6EA021-7C93-441D-BF1C-C065D4C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A8E93-AEA3-4794-B2AC-2D416FA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F117E-A7CE-4A1A-A8E6-ACDCF6C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9E10-03C5-497D-B2BE-1CD032BD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84422-6E2B-4CB5-B1B4-C7C92DD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2CB64-AF05-411D-9AC6-57E35B1F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7847A-E3FD-4417-B4F9-7F9A7EC8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DC0C05-EBA6-461B-9B97-E3954A4E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0EF53B-532B-4BBC-8B16-A2A10103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78ACF3-2EB1-475A-BB43-69B79520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AB10F-DF1E-4F2A-AFBC-057E450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14BA6-AE50-4484-B7DD-0804D10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865EE6-956D-44B0-878E-528C8BBB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CA73B-8BC5-4D1D-94C6-6FF8448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FF5B-CDD5-4AA1-B6C2-BC846647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22FF1-82DE-4DC2-AD5C-FDD57C8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730FA9-B214-41FB-AEE9-EBC2914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3F102-714D-4514-B450-5AF9D430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599355-3D0E-4105-A6CF-D5A5D42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2F4476-EFFB-4AD7-83F6-647140A8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D7841-688D-4927-9C53-EEE90343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A028A1-E65A-4548-817A-455076A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EF9A9A-EB4E-4EC1-B3C1-C4F7B399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6E991-898E-4E33-8DA0-0210556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3C1BCF-A6AE-4B4C-AEBA-41E14110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C879-1FD0-4ED3-9B8C-C292873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0C35BE-8E8F-4D94-8A04-38C32D6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0CF04-C8BA-455F-BE71-B631EF0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20740-A1BC-4236-8F85-FEA85915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00F6F8-9E6E-486B-928E-6D77810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D25D5-5ED6-4B7B-8352-8DC51D27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3AB6D6-3080-499E-A088-02CC9844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CBB01-1AE2-42D3-BD00-9909454A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C5B9-DFF5-4B53-B548-9927A0D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309E-C4DD-441B-947C-382CA464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01D-192F-4608-B098-1FCAAF68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B6AB-DE43-4730-B105-E68512F3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130C-836E-4630-B26D-FC406521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4FFF-4A5C-4C93-B29B-C37234ED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78BC-009C-4133-95DE-D88972B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E149-5EF9-4966-818C-0B56E94F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34B0-68C9-4B7B-A119-F6AC8128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5ECA-90EB-4755-85F8-C9AD5488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0435-4536-4A92-81D2-4D248A8E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2172-B0D8-4CCA-976F-91B3895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71A0-D397-40EA-9A55-AC0BF8D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2E1-1D0E-4BBB-B307-E19B3941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FA8A-BCC9-4A89-9B03-7025E85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5292-419F-4E6D-B576-985B7FC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C5B4-4B5F-4D97-882B-5215FE09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9696-4001-472A-9D64-8B6227E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BBA3-B1C7-4EF7-936C-3224585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C944-1A0E-4616-B252-45C8E71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6667-1633-47D0-9CC0-E174E1D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87DC-0EA6-4DC3-A3C9-5166CA89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C5B8-AD62-4D35-A371-AAFEC9DD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E36F-DC81-477E-9548-658764AE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BFB-4F0C-471F-B82A-4498B8AB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0D3E-D9B9-4F54-A779-9FE6B62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8F528-9198-41DB-80F3-0C01A2FF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673E4-36BD-4795-B157-A9CAC00E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1CC9-760A-42D4-9248-9520C073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AA42-94DC-4B95-996A-96A3DB48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6616-4D27-465D-AF26-F3A30C0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1C60-4513-4173-9421-3177205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91AF-030F-4BC6-AC72-2C43C3E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A8B1-D292-4FFC-931D-E0B004E7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AEC7-F2E6-4EF5-9BFA-7BDA9A2B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4B9-A434-408F-9D58-402E0E8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348E-EBC1-45B3-81FD-2D9B1FC9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CC22-0D74-4711-9CF4-E65453B0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1DF5-F947-4CB2-882D-EBE15296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8611-D2C7-416D-8FE2-6C654243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5E44-27C9-4FB0-AFE9-70D64947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DA832-C908-4177-AA34-58CC7615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1740-C686-45FC-BC98-9F4B76C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B61E5-4137-4647-B621-4D4CA5B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831CB-EA94-453F-A851-47B3B74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4390-DBEE-4F5A-915B-7574A96B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B6F-7DDB-48F1-912F-B41DFF32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7C34-DBFA-4223-94A4-38B9F44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C22D-7442-4A8D-A294-22038341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5CD5-F49B-48E6-ACB3-2EF78839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6847-3B34-46C0-A8EC-B3780B21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C558D-F89D-475D-9316-278AEE46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66EAE-ACD0-4803-ABE2-01AC265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9D33-47ED-44A9-AB8B-DE7B3B7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7284-84EF-43C8-BFDF-5026A8E6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5D85-F6C2-488A-8D3E-322C370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B9E4-D462-431A-A4D5-C4E450C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977-74FC-43A2-A05C-2D6B36C0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CBB4-38FA-458B-A4DC-A2EB1AF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0CF60-B48E-402E-AD68-85F269C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6B9F-776B-41E6-AB97-BC5427D6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5B4A-7F52-4805-87E9-5500DC0D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2307-29C2-4193-B69D-F29E5FEA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6337-C7E7-4A6C-A754-63B48A8A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34AC-BFBC-4F1C-8C4B-854B285F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D07B0-975D-42DF-9B8D-9188BAA4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B5A36-1AF0-4144-B37A-D3CE36DF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EEF19-C2D1-4DFA-BDD7-63EE925D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FFE-1A76-469A-A5A0-20B082C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B6BC-FA5B-4FDC-B67A-A0D9030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C1AE0-6564-452A-BC88-D51E1E4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55A2-75C0-4A06-95B3-E3D8217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3A4F-439F-4959-A4EC-8DEDAADF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C12EC-8D01-4E94-A469-ADACD46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0913-113A-4C80-884D-B2E761D9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AEF3-8283-4CB6-B26C-7C3680CE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D89D9-EA3B-4783-95CB-4F0EC2DA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50AF6-B1FC-40F5-B25C-BB95785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916E7-4949-4DEA-81A7-96AB83D8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BFE-8D9A-4620-9F9C-04F1C66446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283E-C515-4609-BA78-90757BAA77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5F2D-5705-4AEE-9B90-9F5A4F621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41C-CE33-432C-8F44-EEA69E20C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2FCE-5645-42DF-A345-79996F4A5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912A-3407-4B41-A80B-9033D4E5A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8FF-5BEB-4863-861A-746BB2259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CB9D-54F5-4933-8E52-09728BD1D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86C2-8F10-40BC-8947-D48EFF914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4012-8DE1-4BBB-A90D-A8665758B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7B4A-DE81-468B-BB3D-2EAE8A699D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DDF-0AD7-46BE-B1B1-A7CFC9C7E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B67-3D98-4582-8A57-B283E45DC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DE1C-56E1-4EA5-967E-E5D06ADF05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950-6339-446F-B5F8-D07A5C459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8A43-BA40-410A-A0F7-6950F4DF2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7DE2-39DF-486D-9D7F-2677C1171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B286-0140-447C-B588-B8CBD1BCD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2397-FAA9-4289-B92B-5937CB58F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FB3-C20A-4CD8-ADFB-448AA71EBB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140A-B7DA-4B22-820D-8FCBC37B8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73A3-774E-482B-8673-078ECB18B1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0C1-6315-4B14-9F9D-E53D819868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C949-E6BD-40B5-8FE8-7B2340DB6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6B8-4C7C-435F-B503-4D9EF8CB3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CE9E-C287-4F09-B572-DCE335BB1E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1B2-C46E-42C2-B3F8-79F6D26E0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0BFE-5A1D-40F7-BCC5-5D3BE9585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1B7A-F402-496B-B2F5-9D2D434A96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75C-A0AE-4AFA-A9F9-D671E2647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665-562C-4A1A-ABB5-B4D1A6053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B72-8BC8-4029-96CC-7F912E0F2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3FF-E252-45EB-82A2-B2403D2FB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EB3-1F07-4971-B772-10339CF9FE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234-18E1-49C0-B2ED-053ED4E62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AE96-D428-4657-A890-0038F5625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5CC1-5DDC-4455-ACB3-F89458B80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77B-D8EC-42BF-9AA6-95FAFF7A1B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D026-6CBF-4EF4-A8D3-F746FF02D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2D7B-EF9E-4E38-97C2-DB422ED48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31F-4504-4288-8038-456200151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7B33-6FE5-4F70-ABED-CC16A39A5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4321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71360" y="1776240"/>
            <a:ext cx="8801280" cy="3305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3635280" y="2881440"/>
            <a:ext cx="2881440" cy="40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826920" y="4579920"/>
            <a:ext cx="6409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90440" y="1000080"/>
            <a:ext cx="8763120" cy="48578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84360" y="2104920"/>
            <a:ext cx="2808000" cy="409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5003640" y="2119320"/>
            <a:ext cx="2808360" cy="4096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755640" y="3774960"/>
            <a:ext cx="2808360" cy="4096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684360" y="4897440"/>
            <a:ext cx="6119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90440" y="1386000"/>
            <a:ext cx="8763120" cy="40860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900000" y="2068560"/>
            <a:ext cx="2376720" cy="409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826920" y="3198960"/>
            <a:ext cx="935280" cy="409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2124000" y="4292640"/>
            <a:ext cx="2448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66760" y="885960"/>
            <a:ext cx="86104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585800" y="957240"/>
            <a:ext cx="59724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0160" y="1442880"/>
            <a:ext cx="87436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52360" y="1204920"/>
            <a:ext cx="86374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233280" y="750960"/>
            <a:ext cx="8675640" cy="55530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669960" y="247824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84360" y="4724280"/>
            <a:ext cx="5029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33280" y="1224000"/>
            <a:ext cx="8675640" cy="44100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50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266760" y="2019240"/>
            <a:ext cx="8610480" cy="2819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5029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243000" y="1471680"/>
            <a:ext cx="8656560" cy="39146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684360" y="2608200"/>
            <a:ext cx="3240000" cy="409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755640" y="3732120"/>
            <a:ext cx="2735280" cy="409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755640" y="48546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3276720" y="4854600"/>
            <a:ext cx="1295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6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